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41E-2A20-4BF0-917F-9F8AFF8B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humanizing environment. Feel inferior, unimportant, deprived of what makes them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ense of control ov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may  not always have a tv or family members or any way to engage themselves in a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 (waterfall, rainforest, ocean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resources could include general information on preventative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a sense of time, and reconnects the patient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6EE-0E5D-40E0-8B67-312EB0B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B98-20B9-41AE-A778-1B66801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710-5264-47E6-A8F2-F2389C21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514-1672-48C8-B630-F0C7C52A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EBA9-2FEA-4AA3-AB2F-818B523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8BC-90ED-47AF-AF2A-40399D08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0A7-05C8-4A02-B549-6691261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FFA0-8154-41A6-8D58-4E9608AA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6A7F-DE07-473B-BC8B-825CCCE0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ADC1-F2BD-450A-A82A-558A8B27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5EB-2E09-45F4-BED7-F5B82F0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673-C309-4F6E-912C-8A20A28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9476-89A7-4C03-8771-FAAEE3A4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A22E-583B-43DF-B469-570813B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8B05-9620-4F2B-B29D-4990484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3A3-BC0E-46C6-ACF8-E9C9617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4B1-6D64-4331-9FF9-2AB95820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40C-4891-4389-BF70-B9D8A9D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71D-5DA2-433A-82F5-0CBF592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7D0-3F93-45AF-BFC8-1CCCC9D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4F1-0E5D-435A-B3B5-3B663A9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F39-750C-4D34-BA51-903A158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0D8-2B1D-4B22-9CAE-4BB3901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4CA-2E33-48DC-B465-97DE0BE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CC9-0FD2-4F0D-AD51-33A257B042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D75-C238-42C7-9EC4-0AAA0DC953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Improving Patient Experience in Treatment Room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shama Bhat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ober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roline Castel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yn R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Problems associated with treatment room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ile waiting for medical care, test results, and discharge, patients may experienc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ss of control over body and immediat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isorientation withi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isconnection from outs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so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ulner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or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g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99420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672-D78D-4611-B176-07DCFFA0DD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Problem Defini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cuity, room size and layout differ within the ED, but this sense of being “stranded” is almost always present. We wanted to account for all these differences, and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reorient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reconnect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patient back to having a sense of control over their environment, and to the outsid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AD5-9086-424C-91E6-83FA3B717F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Design Solution: Use Positive Engagement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Interactive Touch Screen at Bedside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ight dimmer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V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othing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jector theme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ducation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Hospital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775320" cy="26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6A1-7EC5-4D67-8EC8-66DC983513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Project Scenic Views onto Wall, Curtain or Ceiling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876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iterature shows that views of nature can lower stress, reduce use of pain medication and improve overall patient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“Lightwee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nects patient to what is going on in the outsid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owth depends on sunshine, rainfall, and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uman traffic affects poll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9996" t="26879" r="45821" b="26038"/>
          <a:stretch/>
        </p:blipFill>
        <p:spPr>
          <a:xfrm>
            <a:off x="5715000" y="1600200"/>
            <a:ext cx="297036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521-0A8C-41B6-831A-445BC891D9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Lighting Control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ditionally can only have overhead light On or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Dimmer would allow for control over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Observed a workaround where a patient used procedure lamp flipped towards the ceiling to create ambient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27824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9BE-10F7-49B4-8766-F7EA624EB7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active Hospital Map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hows patients where they are, where other units are, and what happens in different areas of the hos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olor-co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3809880"/>
            <a:ext cx="7543800" cy="1828800"/>
            <a:chOff x="380880" y="3809880"/>
            <a:chExt cx="7543800" cy="1828800"/>
          </a:xfrm>
        </p:grpSpPr>
        <p:sp>
          <p:nvSpPr>
            <p:cNvPr id="112" name=""/>
            <p:cNvSpPr/>
            <p:nvPr/>
          </p:nvSpPr>
          <p:spPr>
            <a:xfrm>
              <a:off x="2514600" y="3809880"/>
              <a:ext cx="2743200" cy="182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39765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You are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3962520"/>
              <a:ext cx="685800" cy="914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4876920"/>
              <a:ext cx="1752840" cy="533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2680" y="3962520"/>
              <a:ext cx="1752840" cy="914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4876920"/>
              <a:ext cx="685800" cy="533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3962520"/>
              <a:ext cx="152640" cy="533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4343400"/>
              <a:ext cx="914400" cy="1522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4267080"/>
              <a:ext cx="304920" cy="304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7960" y="4191120"/>
              <a:ext cx="1447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5181480"/>
              <a:ext cx="990720" cy="228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752480" y="5333760"/>
              <a:ext cx="1371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51814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aiting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CC3-03AD-4A4A-811B-6B7F75C77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48:38Z</dcterms:created>
  <dc:creator>Caroline Castellino</dc:creator>
  <dc:description/>
  <dc:language>en-US</dc:language>
  <cp:lastModifiedBy>Caroline Castellino</cp:lastModifiedBy>
  <dcterms:modified xsi:type="dcterms:W3CDTF">2008-10-09T18:59:01Z</dcterms:modified>
  <cp:revision>18</cp:revision>
  <dc:subject/>
  <dc:title>Effective and Pleasant Treatment Rooms</dc:title>
</cp:coreProperties>
</file>